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502320"/>
            <a:ext cx="9144000" cy="35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a6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a6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98880" y="6578280"/>
            <a:ext cx="5943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    </a:t>
            </a:r>
            <a:fld id="{36A90BFF-9CDC-4818-81B8-18D577F5297F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36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105520" y="936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1a 4.6 Imm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507000"/>
            <a:ext cx="9144000" cy="351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6a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6a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68880" y="6591240"/>
            <a:ext cx="3886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    </a:t>
            </a:r>
            <a:fld id="{3339FEE1-07F9-42FF-95A8-E2C86AD1340B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3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05520" y="936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1a 4.6 Imm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6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a6a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a6a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6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a6a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a6a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6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a6a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a6a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6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a6a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6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a6a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6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a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This is how vaccines protect you against dangerous infectious diseases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0" y="2610000"/>
            <a:ext cx="45496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This is how vaccines protect you against dangerous infectious diseases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52480" y="2487600"/>
            <a:ext cx="562932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This is how vaccines protect you against dangerous infectious diseases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303640" y="2297160"/>
            <a:ext cx="45352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6a6"/>
                </a:solidFill>
                <a:latin typeface="Arial"/>
                <a:ea typeface="Times New Roman"/>
              </a:rPr>
              <a:t>This is how vaccines protect you against dangerous infectious diseases</a:t>
            </a:r>
            <a:endParaRPr b="0" lang="en-US" sz="3200" spc="-1" strike="noStrike">
              <a:solidFill>
                <a:srgbClr val="00a6a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0040" y="2281320"/>
            <a:ext cx="868392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6:30:17Z</dcterms:created>
  <dc:creator>Michael Cotter</dc:creator>
  <dc:description/>
  <dc:language>en-US</dc:language>
  <cp:lastModifiedBy>sthalliwellp</cp:lastModifiedBy>
  <cp:lastPrinted>2006-03-14T10:03:04Z</cp:lastPrinted>
  <dcterms:modified xsi:type="dcterms:W3CDTF">2006-10-17T11:04:08Z</dcterms:modified>
  <cp:revision>21</cp:revision>
  <dc:subject/>
  <dc:title>No Slide Title</dc:title>
</cp:coreProperties>
</file>